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9B8-864F-4B0B-B597-55C3F425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7B4-8A45-40FD-9ABB-F3D9621D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8B1-0F39-40F5-BE40-FDAD1325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E96-C99D-484B-8E08-A1F81AFB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7960-0099-4039-9DDC-7DAD93EC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A896-2982-4F59-8060-E634ECA0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3B20-7738-4323-A739-DFEFE172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BE0B-F8F2-4910-BA21-4F0820F6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1A7-317C-4945-9E18-1DCC53BA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899-EB0D-4430-B471-B985D047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A4F6-2691-4F3C-88AF-177A4A98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4D5-482A-447F-9632-9CB6AF53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7310-4149-48D9-8290-6FCB0C5C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126B-F399-448D-94B6-C84F842E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12E8-18DF-4074-B3E7-EC754E3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7DBC-8BD8-406F-8F5C-D01405F6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E304-95E7-43CA-9537-F6B605C2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400E-7040-40D8-9FA6-5832AD21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D019-E5C6-4469-9044-91BE1120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2BA9-2543-4E6D-863E-049DB4BF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F1A1-3736-4C64-B499-D6DE30D3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6EC7-D308-4948-853A-1436B0E6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BC2-EACA-4470-A199-2E8138F6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C989-BDC3-491E-9686-BD2BFDC7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A9E0-09BE-49B7-9766-88634FA1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6C2B-52AF-48D9-A4BB-0346196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7FEE4-3108-4EA6-A45B-8BB0B3B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46E4-D212-4EAA-ABFF-2B9A14E9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F17F-D86B-43F8-B543-46603D30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DC80-650C-437D-B86E-915D88A5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A0E8-086C-4576-9C28-82BEFB57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D645-8F2B-4177-9C43-F944A2DA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E121-4BC3-4626-89CC-DB1EA949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011-4128-4260-A15B-75B4E361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E4B09-9909-4787-AC6E-E05B8115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9D43-B0F1-40A5-B656-0D67176D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98BD-1554-4DD5-AE5C-8BD226A6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7BAB-ACE9-483E-B985-F97832BF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CFDB-2CEF-4FB8-9942-5349C058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86E44-0D38-42EA-B673-4F88407E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6B7F-1ABB-4D22-92C5-BB3D7992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8C542-350B-4876-9B27-1BC5CC6E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27A3B-FCB8-4E0F-AED3-A84FB23A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23C-359C-47D0-ACF8-5DA9E582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FD9-2864-459F-940A-AB0BCB03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B85-1F71-46C1-A826-4CBB5850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EF5-64C5-4450-8FF9-142A4ECF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61D-EFEE-4BEC-AAFA-13D593A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2630-C199-4E39-A864-E79E539D013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8642-73F8-4B30-B8C2-7CC2CC4B9F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4CA-17AD-4EBA-88E5-F3069EE519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olny kształt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olny kształt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58B-53CD-4BDC-A4F2-EBC348A7799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wój poziomy 5"/>
          <p:cNvSpPr/>
          <p:nvPr/>
        </p:nvSpPr>
        <p:spPr>
          <a:xfrm>
            <a:off x="609480" y="228600"/>
            <a:ext cx="3429000" cy="1033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-1530360" y="-6480"/>
            <a:ext cx="5559480" cy="1298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 rot="19987200">
            <a:off x="-1584000" y="279000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 Yohah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6" descr="http://www.cookplanetarium.us/pics/pluto.jpg"/>
          <p:cNvPicPr/>
          <p:nvPr/>
        </p:nvPicPr>
        <p:blipFill>
          <a:blip r:embed="rId2"/>
          <a:stretch/>
        </p:blipFill>
        <p:spPr>
          <a:xfrm>
            <a:off x="0" y="2438280"/>
            <a:ext cx="3733920" cy="3333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http://www.nineplanets.org/signs/pluto2.gif"/>
          <p:cNvPicPr/>
          <p:nvPr/>
        </p:nvPicPr>
        <p:blipFill>
          <a:blip r:embed="rId3"/>
          <a:stretch/>
        </p:blipFill>
        <p:spPr>
          <a:xfrm>
            <a:off x="5486400" y="3276720"/>
            <a:ext cx="2666880" cy="2590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haron"/>
          <p:cNvPicPr/>
          <p:nvPr/>
        </p:nvPicPr>
        <p:blipFill>
          <a:blip r:embed="rId4"/>
          <a:stretch/>
        </p:blipFill>
        <p:spPr>
          <a:xfrm rot="12733800">
            <a:off x="4530600" y="23464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201" name="Prostokąt 8"/>
          <p:cNvSpPr/>
          <p:nvPr/>
        </p:nvSpPr>
        <p:spPr>
          <a:xfrm flipV="1" rot="15705000">
            <a:off x="11072160" y="4448880"/>
            <a:ext cx="50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235 and -210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9"/>
          <p:cNvSpPr/>
          <p:nvPr/>
        </p:nvSpPr>
        <p:spPr>
          <a:xfrm>
            <a:off x="3498840" y="2967120"/>
            <a:ext cx="158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plo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st satellite names and dates that have explored your plan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 a photo (with a caption that describes the mission) of at least one of the satellites that has visited your plane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6" descr="http://www.cookplanetarium.us/pics/pluto.jpg"/>
          <p:cNvPicPr/>
          <p:nvPr/>
        </p:nvPicPr>
        <p:blipFill>
          <a:blip r:embed="rId1"/>
          <a:stretch/>
        </p:blipFill>
        <p:spPr>
          <a:xfrm>
            <a:off x="2971800" y="3753000"/>
            <a:ext cx="3733920" cy="333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bli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w.nineplanets.org/pluto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Rectangle 2"/>
          <p:cNvGrpSpPr/>
          <p:nvPr/>
        </p:nvGrpSpPr>
        <p:grpSpPr>
          <a:xfrm>
            <a:off x="-6480" y="-6480"/>
            <a:ext cx="9156960" cy="1384560"/>
            <a:chOff x="-6480" y="-6480"/>
            <a:chExt cx="9156960" cy="1384560"/>
          </a:xfrm>
        </p:grpSpPr>
        <p:pic>
          <p:nvPicPr>
            <p:cNvPr id="204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4fceff"/>
                  </a:solidFill>
                  <a:latin typeface="Calibri"/>
                </a:rPr>
                <a:t>history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Rectangle 3"/>
          <p:cNvGrpSpPr/>
          <p:nvPr/>
        </p:nvGrpSpPr>
        <p:grpSpPr>
          <a:xfrm>
            <a:off x="-6480" y="1365120"/>
            <a:ext cx="9156960" cy="5499360"/>
            <a:chOff x="-6480" y="1365120"/>
            <a:chExt cx="9156960" cy="5499360"/>
          </a:xfrm>
        </p:grpSpPr>
        <p:pic>
          <p:nvPicPr>
            <p:cNvPr id="207" name="Rectangle 3" descr=""/>
            <p:cNvPicPr/>
            <p:nvPr/>
          </p:nvPicPr>
          <p:blipFill>
            <a:blip r:embed="rId2"/>
            <a:stretch/>
          </p:blipFill>
          <p:spPr>
            <a:xfrm>
              <a:off x="-6480" y="1365120"/>
              <a:ext cx="9156960" cy="54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Who discovered your planet?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Describe how the planet got its name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Place a photo (with a caption) of the planet symbol and if possible, the discoverer as well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Gwiazda 4-ramienna 7"/>
          <p:cNvSpPr/>
          <p:nvPr/>
        </p:nvSpPr>
        <p:spPr>
          <a:xfrm>
            <a:off x="3505320" y="304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wiazda 4-ramienna 8"/>
          <p:cNvSpPr/>
          <p:nvPr/>
        </p:nvSpPr>
        <p:spPr>
          <a:xfrm>
            <a:off x="5257800" y="0"/>
            <a:ext cx="914400" cy="914400"/>
          </a:xfrm>
          <a:custGeom>
            <a:avLst/>
            <a:gdLst>
              <a:gd name="textAreaLeft" fmla="*/ 361440 w 914400"/>
              <a:gd name="textAreaRight" fmla="*/ 552960 w 914400"/>
              <a:gd name="textAreaTop" fmla="*/ 361440 h 914400"/>
              <a:gd name="textAreaBottom" fmla="*/ 552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8" y="8538"/>
                </a:lnTo>
                <a:lnTo>
                  <a:pt x="10800" y="0"/>
                </a:lnTo>
                <a:lnTo>
                  <a:pt x="13062" y="8538"/>
                </a:lnTo>
                <a:lnTo>
                  <a:pt x="21600" y="10800"/>
                </a:lnTo>
                <a:lnTo>
                  <a:pt x="13062" y="13062"/>
                </a:lnTo>
                <a:lnTo>
                  <a:pt x="10800" y="21600"/>
                </a:lnTo>
                <a:lnTo>
                  <a:pt x="8538" y="130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Rectangle 2"/>
          <p:cNvGrpSpPr/>
          <p:nvPr/>
        </p:nvGrpSpPr>
        <p:grpSpPr>
          <a:xfrm>
            <a:off x="-6480" y="-6480"/>
            <a:ext cx="9156960" cy="1616040"/>
            <a:chOff x="-6480" y="-6480"/>
            <a:chExt cx="9156960" cy="1616040"/>
          </a:xfrm>
        </p:grpSpPr>
        <p:pic>
          <p:nvPicPr>
            <p:cNvPr id="212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0"/>
              <a:ext cx="91440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ffff"/>
                  </a:solidFill>
                  <a:latin typeface="Calibri"/>
                </a:rPr>
                <a:t>Solar System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ectangle 3"/>
          <p:cNvGrpSpPr/>
          <p:nvPr/>
        </p:nvGrpSpPr>
        <p:grpSpPr>
          <a:xfrm>
            <a:off x="-6480" y="1596960"/>
            <a:ext cx="9156960" cy="5267520"/>
            <a:chOff x="-6480" y="1596960"/>
            <a:chExt cx="9156960" cy="5267520"/>
          </a:xfrm>
        </p:grpSpPr>
        <p:pic>
          <p:nvPicPr>
            <p:cNvPr id="215" name="Rectangle 3" descr=""/>
            <p:cNvPicPr/>
            <p:nvPr/>
          </p:nvPicPr>
          <p:blipFill>
            <a:blip r:embed="rId2"/>
            <a:stretch/>
          </p:blipFill>
          <p:spPr>
            <a:xfrm>
              <a:off x="-6480" y="1596960"/>
              <a:ext cx="9156960" cy="52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1600200"/>
              <a:ext cx="914400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Order from the sun.9 Plan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Distance from the sun in AU and in km:39.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Orbital period (how long is one trip around the sun?)5,913,520,0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Rotation (length of one day)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Place an photo on this slide that shows where your planet is located in relative to other planets.</a:t>
              </a:r>
              <a:r>
                <a:rPr b="0" lang="pl-PL" sz="2600" spc="-1" strike="noStrike">
                  <a:solidFill>
                    <a:srgbClr val="000000"/>
                  </a:solidFill>
                  <a:latin typeface="Calibri"/>
                </a:rPr>
                <a:t> Pluto and 2003UB313 (Eris)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Gwiazda 5-ramienna 3"/>
          <p:cNvSpPr/>
          <p:nvPr/>
        </p:nvSpPr>
        <p:spPr>
          <a:xfrm>
            <a:off x="7620120" y="228600"/>
            <a:ext cx="914400" cy="914400"/>
          </a:xfrm>
          <a:prstGeom prst="pie">
            <a:avLst/>
          </a:prstGeom>
          <a:solidFill>
            <a:srgbClr val="000000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Gwiazda 5-ramienna 4"/>
          <p:cNvSpPr/>
          <p:nvPr/>
        </p:nvSpPr>
        <p:spPr>
          <a:xfrm>
            <a:off x="1600200" y="228600"/>
            <a:ext cx="685800" cy="685800"/>
          </a:xfrm>
          <a:prstGeom prst="pie">
            <a:avLst/>
          </a:prstGeom>
          <a:solidFill>
            <a:srgbClr val="04617b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24421a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Gwiazda 5-ramienna 5"/>
          <p:cNvSpPr/>
          <p:nvPr/>
        </p:nvSpPr>
        <p:spPr>
          <a:xfrm>
            <a:off x="228600" y="685800"/>
            <a:ext cx="914400" cy="914400"/>
          </a:xfrm>
          <a:prstGeom prst="pie">
            <a:avLst/>
          </a:prstGeom>
          <a:solidFill>
            <a:srgbClr val="000000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Gwiazda 5-ramienna 6"/>
          <p:cNvSpPr/>
          <p:nvPr/>
        </p:nvSpPr>
        <p:spPr>
          <a:xfrm>
            <a:off x="6629400" y="380880"/>
            <a:ext cx="914400" cy="914400"/>
          </a:xfrm>
          <a:prstGeom prst="pie">
            <a:avLst/>
          </a:prstGeom>
          <a:solidFill>
            <a:srgbClr val="04617b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Rectangle 2"/>
          <p:cNvGrpSpPr/>
          <p:nvPr/>
        </p:nvGrpSpPr>
        <p:grpSpPr>
          <a:xfrm>
            <a:off x="-6480" y="-6480"/>
            <a:ext cx="9156960" cy="1433520"/>
            <a:chOff x="-6480" y="-6480"/>
            <a:chExt cx="9156960" cy="1433520"/>
          </a:xfrm>
        </p:grpSpPr>
        <p:pic>
          <p:nvPicPr>
            <p:cNvPr id="222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0" y="0"/>
              <a:ext cx="914400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e64b2"/>
                  </a:solidFill>
                  <a:latin typeface="Calibri"/>
                </a:rPr>
                <a:t>Planet Measurement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ectangle 3"/>
          <p:cNvGrpSpPr/>
          <p:nvPr/>
        </p:nvGrpSpPr>
        <p:grpSpPr>
          <a:xfrm>
            <a:off x="-6480" y="1292400"/>
            <a:ext cx="9156960" cy="5572080"/>
            <a:chOff x="-6480" y="1292400"/>
            <a:chExt cx="9156960" cy="5572080"/>
          </a:xfrm>
        </p:grpSpPr>
        <p:pic>
          <p:nvPicPr>
            <p:cNvPr id="225" name="Rectangle 3" descr=""/>
            <p:cNvPicPr/>
            <p:nvPr/>
          </p:nvPicPr>
          <p:blipFill>
            <a:blip r:embed="rId2"/>
            <a:stretch/>
          </p:blipFill>
          <p:spPr>
            <a:xfrm>
              <a:off x="-6480" y="1292400"/>
              <a:ext cx="9156960" cy="55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0" y="129528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alibri"/>
                </a:rPr>
                <a:t>Include all measurements from your data workshee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alibri"/>
                </a:rPr>
                <a:t>mass:1,27e22 kg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alibri"/>
                </a:rPr>
                <a:t>Volume:6,390,000,000 km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alibri"/>
                </a:rPr>
                <a:t>Insert a photo (with a caption) of your plane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Błyskawica 5"/>
          <p:cNvSpPr/>
          <p:nvPr/>
        </p:nvSpPr>
        <p:spPr>
          <a:xfrm rot="1597800">
            <a:off x="367920" y="159840"/>
            <a:ext cx="914400" cy="838440"/>
          </a:xfrm>
          <a:prstGeom prst="lightningBol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Błyskawica 6"/>
          <p:cNvSpPr/>
          <p:nvPr/>
        </p:nvSpPr>
        <p:spPr>
          <a:xfrm rot="2228400">
            <a:off x="7695720" y="152280"/>
            <a:ext cx="914400" cy="914400"/>
          </a:xfrm>
          <a:prstGeom prst="lightningBol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cookplanetarium.us/pics/pluto.jpg"/>
          <p:cNvPicPr/>
          <p:nvPr/>
        </p:nvPicPr>
        <p:blipFill>
          <a:blip r:embed="rId3"/>
          <a:stretch/>
        </p:blipFill>
        <p:spPr>
          <a:xfrm>
            <a:off x="3429000" y="3295800"/>
            <a:ext cx="3733920" cy="333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position and Atmosphe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the core and surface composition of your plan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mosphere : methane, nitro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rface Condi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st surface temperatures – 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-235 and -210 C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the details about weather found on your planet.  If you are doing Jupiter or Neptune, this is where you should show and tell about the large spot.not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many moons does your planet have?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st moon names. Ch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r planet has no moons, add more pictures and captions inste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9" descr="Charon"/>
          <p:cNvPicPr/>
          <p:nvPr/>
        </p:nvPicPr>
        <p:blipFill>
          <a:blip r:embed="rId1"/>
          <a:stretch/>
        </p:blipFill>
        <p:spPr>
          <a:xfrm rot="12733800">
            <a:off x="4327560" y="41752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ut the name of the most interesting moon her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088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l us about this interesting moon. Char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 a photo (with a captio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ing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information about the rings surrounding your planet. nor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 a photo (with a caption) of the rings. no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r planet does not have rings, add more photos and descriptive captio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5:39:58Z</dcterms:created>
  <dc:creator>Sean Gardinier</dc:creator>
  <dc:description/>
  <dc:language>en-US</dc:language>
  <cp:lastModifiedBy>nauczyciel006n</cp:lastModifiedBy>
  <dcterms:modified xsi:type="dcterms:W3CDTF">2009-01-26T12:14:48Z</dcterms:modified>
  <cp:revision>34</cp:revision>
  <dc:subject/>
  <dc:title>Name of Planet</dc:title>
</cp:coreProperties>
</file>